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9C7-9555-4A39-B8D8-609AC666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ED2-9ABD-4A4E-A1CA-045DBF8E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41E12-1DB0-4A4E-B09A-7DE1C80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51E3C-B67A-4A31-9170-D5905F48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98E5A-8908-4608-A2BC-1727AD38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B7567-A72B-4CC7-B97D-1B1D486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5F1CA-202D-4C7F-9813-ACF0620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72600-4D78-44FF-919B-CEFA0FB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07CEC-CA1A-4B80-BD6E-74160CCF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C91B6-9094-45A6-99D9-35AAE189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1283-6762-4DE2-B534-4FF3E342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F0BA0-0971-4965-BB30-C6B90311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C2B-D618-4B0B-8E11-18F6E206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D4E2-D2EA-41B1-8126-DDCE6C4A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69297-DEFA-4FF0-9C8D-D3308947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4929A-B099-4829-9353-8B126DFE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299F3-BB74-4B0B-AC05-5AB2F6C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58D38-384F-49E4-8FA9-7008B89E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C93CB-5071-4A37-ADD5-8292850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2BC7F-3283-49B8-9761-C228806C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1B502-9161-4B62-8842-CA8546DB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BF8F9-BF3F-44D7-89A3-36D9CA7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477BB-945F-45F8-B61F-CC072677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CA6-A83C-401E-8DAB-344C641B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7BD09-F5B0-45B6-B5C0-15067008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E06CA-FBA1-42A6-8475-9B9175F2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3222-164B-4B72-A467-78CCFF5E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EDF5E-2218-466D-A3CA-554DCAA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B1E49-1F08-4162-85E0-AD02C4B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AC3B9-8D1D-4E95-A878-8C2F524B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3E4A0-BF7F-4706-B19A-848CBD3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66F19-C235-47A9-8DB8-00091D5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B790E-7600-4C7C-9798-7888964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6ED80-0977-4A6B-9B1C-7EE5040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45C5-90C0-4C15-A898-EA747F42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B212F-5A14-4106-BB9B-F323050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776E8-C64A-4A82-AD03-8CC4EF27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288D3-18E2-4123-86AA-46A1254C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6D913-89E3-418C-93AA-1ED3D881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52F64-C03D-4017-9126-533D314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31136-4089-4BA9-A982-239D7A5C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829AE-E696-4CFE-8CA8-373B1D7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8ED88-22AB-4E11-AF5E-A8D4C8AC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EB592-ADA7-4775-9354-BF94636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DB315-8B70-4ED6-ACE0-0A4EEB2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225-B6A1-4C62-997D-17474475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22140-0E38-4E02-A70D-9643E41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D16B1-ACBB-44AA-A420-5B2462E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F36D6-CDF4-4333-83A4-18F736DB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3DDC0-B981-44BC-B2C3-3C805E1A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70351-DBCB-4C04-88B3-92AE77E7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CD1A7-B424-4DB2-A9C6-55B2F04F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80226-FBE0-4998-9130-7504C9B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E4920-709C-412A-BEE2-1BB68A3A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5B200-39E9-4855-998C-6537D34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5BCCE-05F3-41C3-87A3-778C2B5B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147-AABA-4A63-808D-9EA167BC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26489-39BE-43BB-9071-C1A4E3EC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9C26A-7720-400C-9438-5724D66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3D7DE-98E3-4D14-9748-75F0910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2CD66-7070-4406-BB68-0AF7096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9AF0F-E3C0-42D6-ABC7-51C4AC9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CC924-50CF-4DA9-9E55-2CB259A6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53BB-3B43-4655-8BBE-9C7E7C4B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AA6E1-6E07-426F-9963-4E91FCFE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DA5FB-83B2-40A0-91F5-1E1F0EA3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122A3-E1D4-47E1-812C-F070D434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3DEA-8C6D-4ABF-823F-D7128F4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0AC12-362F-42D7-A552-D1D9578F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D983F-8FBA-4CC7-AB35-3456165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F96A8-0E22-4429-8116-230DACB8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FDF54-2018-47D0-A9C2-04240E7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50791-8C16-49A1-B3D6-6C41E0B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CB847-3CC5-4D1B-8778-72FE2F4B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D2311-424A-4A8F-B0F4-3704EAA0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7CC71-5BE1-4970-B882-F4F20330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5B7D6-E9CC-4641-BDF5-59F909D2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DE4A7-AAA1-4155-B743-0A8480A8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8E7C-A2F7-428B-BDCF-D6CA8D19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A34C9-C744-4C2D-A0DE-D88D8A81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96FC7-5B3E-4CBB-936F-138E49AA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C4B54-860A-4469-AD09-E4BE5273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770DF-9303-4202-9712-20D4B109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446F1-2F65-4414-BB79-DF141290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0A1C8-E325-415E-978C-5062930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BD95D-330F-44F2-BA4C-9FE2C5E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B4AA1-BE72-47F3-9F38-468ED81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831E8-D644-403E-9D07-3A36C566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71F75-4BDC-45BB-A785-F96E725D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1A5-E88F-4B09-A551-9C96426C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33D6D-F8ED-443B-84D6-1C0DCE09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05BA0-016B-4CD3-AC6C-06220FFE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35AE3-7E04-4CCD-97BA-233CA52C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F45D5-DF12-45A4-A1F2-DD21A486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7C687-A286-4048-8DD7-04221F7F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825CE-1956-41D3-BCAB-265E59C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DDAB2-DDF9-479B-AAEF-F2BB1A8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A1D36-F0A2-48FC-9A19-06F0D8F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9ABBE-71FB-4FCA-84F6-57D7851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25839-A243-4968-832D-33B55CD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A08F-79ED-44A8-A607-F36BD609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F9899-CD34-4341-A56F-022A7180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57CA8-D32D-4B2E-919A-C25040FD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1357A-FF75-47AF-88C4-47B8E99D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620A9-0570-4CDB-9808-6E043B94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724A9-3700-477F-929D-4B2E56A8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13D9C-5A2D-4066-910D-2C19B6C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24A59-1005-4961-9AD0-8C549DF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8CF45-4D01-4D7B-B3A5-D37C590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F7B27-57D7-4A56-81EE-5ECC447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93B7C-F89B-4222-B679-1AA3B8A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B1E-2785-4EDC-9C28-1E636091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A6C1-BF56-408C-ACF9-F1DCA93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BA2AF-DFC4-4DD4-ADFC-A704AF14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A6358-D8F2-4A1F-AA85-F7F3BB9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74FD8-6824-49DB-8B86-BF33C2A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4E088-FFD1-4778-9737-CAA19BBE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4CE7E-C216-46D4-8EA3-5D7F5022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8D67B-7A80-47FE-BF0A-F0B3E590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74B3E-5662-49FD-997A-D35AFF4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0D527-5848-4381-BA89-CF2E1A4F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E2E1FC-AC2A-45A0-A846-09947A0D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EE6D6-0A79-4ECF-A5F7-7A9AAC1C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0912-D436-4A9C-8FA7-702D746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617C3-978A-428C-892A-625814F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307CB-8F35-4EB6-A620-979E35B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54DE7-AF30-4285-A3CC-833BBDE3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8B8DB-30F9-44DC-AED6-720698B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76317-644C-4FA3-A2A2-6D425D1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9BB7B-1E00-4DD6-BF55-F7F25B0C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D66FF-BB26-4E76-9647-D1B8BC5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AFC17-4E78-408B-B64D-99A756BA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1473E-1301-433F-AAD0-57E29EB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3E27E-1204-43F5-94CE-EFE545AA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91A-B81F-4CA7-A933-119F960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61410-104A-4BA4-8B3B-6F6F6E74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766E6-1D15-4433-852D-16ED535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9A953-C0AD-42C5-B3CB-7AB3C0EA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0649C-9CB1-432E-9398-F1745664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E9333-E336-4B8F-87B2-5A01DEF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282BA-A1D8-4345-B91F-1C375DD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0E141-C5B8-4C77-873D-38DA6133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32F1A-7DAA-45B0-9A2F-B0FCB747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3E1A9-B070-45CF-B570-0ACDC457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9C245-9BFF-4E7D-9E85-6BE6F701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617-DB09-4C9D-AEA7-87989185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BEC1A-251F-4290-AD00-C9E5393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A584B-8C2D-44E9-B201-50854B7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DDAB5-29DB-4263-AE77-19D89B3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F0BBC-BA2E-4D9A-A17A-DC4609E3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95587-330A-4EDF-A99A-12ADAF74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19C9A-41B4-4641-8CA4-C2E7F30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BE529-4A0E-4D9F-9182-796832D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E355D-0839-4514-837F-0CA985A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A2DE1-37EE-4375-976F-E70CE31C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3FB85-667E-483F-8880-217FDED6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1CF-F6C5-4420-A159-90CDA652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BC08F-8D98-46CC-9F30-C5A5528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32E89-515E-4E13-A5B9-AB77682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DFCA6-A6A9-4B57-AB4B-E3EDCAA8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4D6F6-6D3A-4AB7-8398-0CBDBDC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8AA6E8-24DE-44AE-B24E-68F7FE5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155A4-0302-4EE0-96AC-D7E19855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11240-8934-458F-972F-0EC4F608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AE440-B329-4B7B-B393-E87399A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44456-B91F-4EEE-A3BF-80CF8D77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4B838-6801-475D-A701-378AAE6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DEF4-D413-4E06-94A0-92297B31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AFEA2-7FC4-421C-BD58-F2FAD5D9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4F7A1-BFB9-458E-861A-1153D1B0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ED80E-E36C-4B0E-800A-A053DAC4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5402-DD35-48F9-B513-3B056784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040A-CE59-4E08-8397-2EF3CB8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FD2C-F2AC-4A15-94B8-6AFD9FC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7BAE-2F86-430C-8093-F279ECE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F20-E028-4F27-9562-E38C747A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A6B8-9B3B-485E-954A-6D090FD3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52A1-57C0-4BD5-99E8-9C89202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D846-E827-4CF1-9C24-BC83FB26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7DC8-056F-4240-8F21-2355B4B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11CE-9E0D-4CAD-A5F1-90F1148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29E1-1722-46A0-B7C1-6D5C1CC0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2C53-C860-4E6C-9F5D-8009C397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8157-9B8A-4377-8025-337871BE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3BC8-6652-41FC-82EC-E8501C53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B4C1-4258-49E1-A44E-EAFDC899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0FA-B718-4C70-97AB-A42D1AEA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63EC-9794-41C2-AFE5-08F1BD7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8FC5-BF47-4146-9873-92E3981C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06B7-3588-43B1-9846-8B320B8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5A152-612B-4D1F-A5BE-E4D950A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88B3-6197-4186-BE49-659E608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CE95-6D56-45B9-A4B9-F59644B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7DF6-9E57-4F9C-9896-3238AEF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21DE-B4F8-46B6-92FA-D1C95657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F93B-E35D-415D-9B19-7E0A91D4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C4EB-EA2E-49A9-BA51-AD543DDC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CF0-D2B9-4D38-A7E0-63906C9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947A3-4B98-40FE-AC6F-0453EBA2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0049F-B2D2-441D-B59A-59A7F334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9065-16B8-4D90-96E4-2A516CC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30A4-5BFB-4943-834F-B19AFA9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2EBC-069A-4267-9295-0C5B09A5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E359-D6B1-4850-AB1B-315F767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B645A-AB14-41B3-84B1-F0B3B58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E3F6-7F8E-4671-9E34-B67EB73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069D-C759-4E2D-94A5-0951D1CE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0067-B2C4-4632-A9C9-73085E73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729-1FB8-4A01-95C0-5768469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C6E0-274C-4CA8-90E6-FEA560F9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73AF-97E7-4A4B-A0A2-1D7E44DF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D523-8D9B-4FE9-BDE9-36A5E9FA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4D9C-81D7-41F5-B3DF-F4F4B0F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12FA-526D-4825-8AA9-3B1D5493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3210-0D8A-42BE-B82C-8231CC4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98A9-AFAA-4715-80F1-B5E63A6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7AE6-A466-4A79-ADA0-018AA11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792A-1687-422F-80B3-57BCB52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4A0F1-4237-4D72-B39F-24B433F8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D83-C1D4-4CCC-9CC5-D08054C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7B66A-3F84-418C-826A-01F49FF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FAE5-ABB0-4DC5-B809-9DA828E2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D521-ABAE-4A0B-85DC-83012982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8E1B9-BE36-4FF8-AC56-3DC324BA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7C47-2882-4E16-AEE3-73BC401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7AD4-E6F5-436A-B8A6-E1B5948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8713B-079B-4832-AE4E-E1E64D2A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AE31-3E26-48ED-B88C-57DDF71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F0A3-C0A3-449D-AC0B-DB7F063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8FC0-5573-4769-8333-761D3EE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66E-5C63-4294-9079-207DC3FD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735A4-964B-4384-9F7D-2F316C6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E0EC-84FF-464B-ACC9-4A280E4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C2F7-4182-45E0-9374-02F90370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53E6-2A96-4449-8C47-6F103F93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89A66-5665-43CA-B9EF-86105C4B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9193-A8BA-4B5E-9F12-1CF54AC8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2E1BD-C09C-4284-B4AA-0E8B811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E300-95D1-487E-AAE9-F852D22C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F11F9-E475-4DB1-8840-2CDCF3F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0318-65DA-45D9-9BCF-EA02599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99E-60DA-4851-8AF9-797904D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DDAC-559F-4EDF-91E3-1B7FB28D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D965-6DA9-4258-9E3F-E4205BD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C232-FDD1-42FB-82A9-5E55D2F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6C91-1E07-4713-86B1-B08BA5CB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EEE9E-9FFC-46A8-9952-542ECC78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506B-2C8D-4467-98E2-B4F27F7D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16EBC-15A7-4C3F-A4EB-EB97397C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574DD-0DC1-4D38-BFFC-7DAA29C1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C1D56-D2C0-4175-8CD9-C8A01E6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4DA32-DBE4-4E20-AE12-8DF183E3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BFE0-65C5-41E6-BBE2-946B8A78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EBF4-5E21-4413-82DB-380C8C39A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5D3E-F537-4ED5-A091-69DA815302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E4B-1A4A-4D13-8356-C7454F7F86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86A-1267-47FA-95B4-33C8914188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535-D2B4-4911-B87E-1FF414F22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B3F-07FA-460B-8EB4-C80B279EE7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D1D-71B8-480B-A8CB-CFFF65903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6F6A-AD69-4696-830D-BB2CB42D4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173-1242-45F0-B6A4-F44D30A2A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4FC1-DEF8-46A3-AFBE-FC764A49DB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AA0-3A13-4F58-B56E-83DA22554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0E29-956F-4C40-9F7D-616F00456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AECD-9F76-463C-BDCE-BA875DE58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13B7-BC4F-4E0C-873F-2C63155BB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48E-4917-417C-A1EB-436F20294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4CA8-012F-4F19-8354-FE8527F4B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C280-42AA-4402-9747-7F066AB2C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7C7A-9D05-4F2E-AC5B-3C856AD32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B7A-23DE-48D9-8EB5-8156EFA23B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D8D4-8403-4955-A64F-95C8A83E4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A0DE-294A-4F47-8916-83099E9B6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198-1232-4FAF-90D2-22CABECBB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4466-F8CA-4483-965C-3A7C9842F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F70E-1491-4B0E-901B-2BBAF63B8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ADA6-E5EC-4E56-B3B3-AFA67C12C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33F3-76DD-4C6C-88E4-E04B934C2A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6046-8040-4240-9863-6EE02BB6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6420-F435-4AEB-8F02-BACFB3E90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5C31-B971-4410-B71C-D4A1C585A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18E-91EE-4F82-8BB4-25F9A2A55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5EA5-116B-411D-9B6B-D131382F27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CCF1-9B0F-4307-8033-5F7742339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9EDB-55CC-4895-82AE-CF3332B55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02A0-F013-44E0-B925-020893630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4F2-F234-4073-AA0C-F73645A44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035A-A272-42A5-A2D0-33C81DB0A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46C6-C3FB-4D22-8C56-11AAFFF79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CF8C-A177-41E9-8838-A05F6CB62A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C9A-01B9-405D-840F-74A9BB818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57320" y="3048120"/>
            <a:ext cx="5229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33240" y="2838600"/>
            <a:ext cx="7875720" cy="1180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6227640" y="36590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2987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32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788508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572000" y="365904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738360" y="2243160"/>
            <a:ext cx="7665840" cy="2371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4176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41768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403280" y="348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47636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476360" y="4278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476280" y="2395440"/>
            <a:ext cx="8191440" cy="2067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619280" y="41054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3708360" y="4121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5724360" y="4121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7740720" y="40910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652320" y="2233440"/>
            <a:ext cx="7837560" cy="2391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33200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33200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332000" y="3817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1332000" y="42354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5:02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